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84FE0-5C14-4F68-926E-CF452B03B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EE9AE-8AD5-4F0C-8522-1CBBCD78C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EFF7E-FD58-4DA7-B659-18C4C1B93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3B342-1964-453A-BF65-0E4848C9D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A54EB-6170-4384-87EB-1C4BA5C83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0852D-D6F0-4F27-AE6F-3D7279B12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C5344-0936-446D-BCB1-45EF4ABCD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9A19A-86C1-471E-93A4-939868AE8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44708-9D09-4596-A794-187E00B4F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64B8B-ED59-47D7-B7BE-7A7F55475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0D57A-A674-4F0A-8722-AEE47F62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81907-8BB3-456B-B526-CB25916DD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34E23-DAAC-42AB-9E1F-A10E8332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8BF51-9B69-478F-9D72-687AC389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BDF1A-6888-486E-B1A2-D4C290196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EAE8C-413D-48DB-ADCF-F40C88F16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4CFB2-A439-4D42-8AA8-42AAC81DA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2E3F2-8067-4BCA-93BF-36A3663CA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34B0F-738A-4336-8205-8A9E5D3AA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2CA5D-EB6C-4B56-880C-6A2FAD6AD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74629-97C5-431D-AB78-966172C41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B1A65-E4D4-4471-9EA2-26B3CB10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B8187-FE78-41D1-90F9-D739E7BE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3C967-6373-4912-A389-BC8FDEAF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ECD06-9630-431E-B0C3-D2831A9CABAF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2091F-313B-40D6-A1AA-F562FD7F5928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108000" y="1410840"/>
            <a:ext cx="8928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10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794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ие идем тук, о, Спас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сторим с Теб завет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е ходим вярно в Твоя път –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ва е наш обет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79280" y="2402640"/>
            <a:ext cx="896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За новия живот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и благодат ни дай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сила всеки ден и час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ор' стигнем в светлий рай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79280" y="2402640"/>
            <a:ext cx="896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Характер изград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чисти в нас сърца;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чада да бъдем в този свят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Бога и Отца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4-17T09:00:05Z</dcterms:modified>
  <cp:revision>69</cp:revision>
  <dc:subject/>
  <dc:title>Slide 1</dc:title>
</cp:coreProperties>
</file>